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28B9-9EA1-413E-A0C5-F77984EE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zooburst.media.s3.amazonaws.com/documentation/ZooBurst-Quickstart_Guide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 pages user guide with ZooBurst explained in detail.  It also has a support link and email for questions that need to be answ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mium ZooBurst account holders have access to more student account capabilities (250), access to advanced tools, features, sound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CB1-A31C-476D-BB8F-8AB5C21B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Profile Outcomes that would be covered through ZooBur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-Choose and expand on a gener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tion-Present ideas in a logical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Choice-Include some descriptive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ice-Shows awareness of aud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Shows personal interest in a 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Conveys personal feeling or individual sty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ice is a writing trait that is not easily included in many written stories.  Using ZooBurst would be a great way for authors to think about their audience and how they want to be seen as a wr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2288-FE25-4824-BE59-FF649490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zooburst.com/zb_welcome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zooburst.media.s3.amazonaws.com/documentation/ZooBurst-Quickstart_Guide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v/jwE25dx2C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v/tpmqs7Yn8V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por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06E-1932-4013-A71F-DF6A7400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210-93D7-411D-99E2-D672F120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1FA-EC4D-474C-968E-B793BBF2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E38-4730-4483-8962-7BDA6F18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847-5281-489B-8DEF-CED88DE4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1E1-3B37-410E-8AB9-98EB7B54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DDD-9512-47E6-AAF9-57164A08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BD1-D42D-42C1-8C88-25B9E621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7BD-FFBF-458A-B80F-BA0FEB44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B2A-B46A-4A73-AF4E-E9FA9DF0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40E-8AC4-41C4-8302-85DCAC1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26B-5ECC-4877-9127-4DF0F16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DBA-14C2-4E7C-BE6E-590023D6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C7B-9526-4F9C-B9A5-5DAEA46293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ZooBurst</a:t>
            </a:r>
            <a:br>
              <a:rPr sz="4400"/>
            </a:b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By: Shelley Haw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Burst is a digital storytel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3D pop up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on desktop or laptop computer and i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can shar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embedded in any web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zooburst.com/zb_welcome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Gallery-book on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burst is free to sign up (Bas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riting and creating your book-up to 10 pages in length and 10 student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emium)Unlimited access costs $49.99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account with 5 teachers c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9.99 per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tpmqs7Yn8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ShockwaveFlash1"/>
          <p:cNvGraphicFramePr/>
          <p:nvPr/>
        </p:nvGraphicFramePr>
        <p:xfrm>
          <a:off x="900000" y="907920"/>
          <a:ext cx="6696360" cy="518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907920"/>
                    <a:ext cx="6696360" cy="518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cam makes the ZooBurst book appear in augmented reality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: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ShockwaveFlash1"/>
          <p:cNvGraphicFramePr/>
          <p:nvPr/>
        </p:nvGraphicFramePr>
        <p:xfrm>
          <a:off x="250920" y="2492280"/>
          <a:ext cx="6913440" cy="43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492280"/>
                    <a:ext cx="6913440" cy="4365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Use descrip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actice using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ublish and share their work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View and comment on peer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evelop and showcase their ‘voice’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/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set up the classroom account and assign usernames and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can manage and monitor work in a protecte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rsonal information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ZooBurst account holders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books and only if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 owners must approve 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made about thei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Finished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zooburst.com/zb_welcome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hawkeshl</cp:lastModifiedBy>
  <dcterms:modified xsi:type="dcterms:W3CDTF">2013-07-04T12:00:21Z</dcterms:modified>
  <cp:revision>22</cp:revision>
  <dc:subject/>
  <dc:title>TITLE</dc:title>
</cp:coreProperties>
</file>